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FD1C-59E6-4D25-B38F-59661EB2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D924-E4CE-4DB3-B367-8AB752E6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6412-33B4-4084-A843-A266C78D8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3CD5-5E55-428E-9E6B-0A85E3B1B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5B6A-AE00-419E-B57A-BA25D92F7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D0AB-03E5-4AAE-883F-1718F56A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2FC8-0AA0-4777-AC04-88B03A72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8931-9DB4-4B0C-A224-BC44FA3F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C3FF-1185-4515-A125-FB58F0D7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4EC9-D5BA-4C9E-925A-5FFFCBF7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0937-757A-4846-BBB3-399443C2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EA34-0E41-4795-B756-86BEE8D8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F739-6026-48FD-8B45-A9FCD449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F811-82A1-4E28-A8D5-A36F1802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5044-5DE9-4953-AF4A-A146E49E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C2FF-B323-422D-95A4-07AE52096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1C36-3528-4305-A2F2-2C111FE6B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0B8F-15C9-4365-B0DF-50CB7EF5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B756-5131-475B-B986-88B449CF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EB81-7271-49F2-84A1-D8A2C477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C136-D913-4AED-8657-85836813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1DFB-5884-4755-876A-F450ADC7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CC00-4C95-4D6C-9C2F-1B258E37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2FD1-1C32-4BFA-AF5C-289B9B73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68C6-5DEB-4860-97AB-13790C69C99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BD5F-79E8-47D3-AE8C-914FCA037FB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7138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24 миллиарда на информатизацию здравоохранения России: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мы знаем, что с ними делать?</a:t>
            </a: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онконг-Хайнань. 3-15 марта 2011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50920" y="4292640"/>
            <a:ext cx="866448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ихаил Эльян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зидент Ассоциации Развития Медицински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формационных Технологий (АРМИТ), к.т.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99) 200-10-6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info@armit.ru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ww.armit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кандал с конкурсом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896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андал разгорелся после того как пользователи Интернета обнаружили тендер на право заключения государственного контракта на создание социальной сети медицинских работников и пациентов на основе портала главных внештатных специалистов ведомства. Известный блогер и адвокат Алексей Навальный обратил внимание общественности на странные условия конкурса: весь объем работ стоимостью около 2 млн. долларов должен быть выполнен в течение 16 дней с момента заключения госконтракта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обращении А.Навального в ФАС отмечалось, что Минздрав грубо нарушил нормы действующего законодательства РФ, регулирующего размещение госзаказ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 обращении А.Навального в ФАС говорится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1440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Требуемая социальная сеть должна представлять сложный электронный портал, оперирующий значительными информационными базами данных … Однако, согласно условиям размещенного заказа, весь объем работ должен быть выполнен в течение 16 дней с момента заключения государственного контракта. Данный срок является заведомо нереалистичным и, скорее всего, установлен для уменьшения количества потенциальных участников конкурса, что может быть результатом преступного сговора между должностными лицами Минздравсоцразвития и неустановленными лицами, планирующими принять участие в указанном конкурс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2631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-360" y="25992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кже было обращено внимание на деятельность О.В.Симакова и еще ряд провидимых по его заказу тендеров Минздравсоцразвития: 20 млн. руб. на сайт «система принятия решений врача при постановке диагноза» (срок выполнения - 16 дней), за электронную медицинскую библиотеку предлагается 35 млн. руб. (срок - 14 дней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82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964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ы и методы управления процессами информатизации здравоохранения вызывали и вызывают очень много вопрос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н прецедент: профессиональное сообщество может реально влиять на ситуац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11-й выпуск каталога «Медицинские информационные технологии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5184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0 компьютерных сист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50 фирм-разработч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2 разделов, более 100 рубр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0%-90% рынка российских компьютерных сист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 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регионов Росс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5% фирм разработчиков – коммерческие струк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5% - гос. струк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724360" y="1916280"/>
            <a:ext cx="3249720" cy="45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Рост доли МИС (от 7.4% до 16.0%)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 общем числе компьютерных систем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0" y="1600200"/>
          <a:ext cx="442764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44276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4788000" y="1603440"/>
          <a:ext cx="3971880" cy="524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1603440"/>
                    <a:ext cx="3971880" cy="52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4711680" y="1600200"/>
          <a:ext cx="4432320" cy="5257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1680" y="1600200"/>
                    <a:ext cx="44323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Вбрасывание бюджетных средств на неподготовленную «региональную» почву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неизбежно приведет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9280" y="2852640"/>
            <a:ext cx="896472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нерациональному использованию этих сред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вероятному разрушению существующей информационной инфраструк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разрастанию зоопарка МИС и др. сист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появлению через два года множества несовместимых региональных систем информатизации, интеграция которых может потребовать больших средств, чем разработка с «нуля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Неизбежные последствия отсутствия единых требований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к автоматизации регистратур и приемных отделений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9280" y="2852640"/>
            <a:ext cx="896472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ка собственной (уникальной) компьютерной регистратуры ЛПУ на основе базы данных пациентов собственного (уникального) форм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следствие - создание уникальных МИС и системы уникальных подключений «клинических» систем (т.е. стыковка «каждого» с «каждым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избежный (и практически неустранимый мирными средствами) «зоопарк» в масштабах страны (а возможно, и субъекта РФ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а идее создания единой гос. информационной системы (ЕГМС) в сфере здравоохранения можно ставить КРЕ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Есть ли инфраструктура,  альтернативная системе МИАЦ?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е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Есть ли у МИАЦ реальные стимулы приобретать решения других МИАЦ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??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Нет данных (и никто, судя по всему, не планирует считать)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50560" y="2060280"/>
            <a:ext cx="8893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лько надо установить ПК в регион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лько это будет стои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лько будет стоить выполнение ФЗ 152 «О персональных данных»? (например, в Москве, как минимум – 3 млрд. руб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лько будет стоить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держка ЛП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Решение заседания Совета при Президенте РФ по развитию информационного общества в РФ (Москва, 8 июня 2010)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ратить внимание Минздравсоцразвития на срыв срока выполнения поручения Президента РФ от 1 августа 2008 №Пр-1572Г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работать проект концепции создания единой гос. информационной системы (ЕГМС) в сфере здравоохран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ганизовать общественное обсуждение н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Тверском социально-экономич. форуме проект программы информатизации здравоохран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Обеспечить в 2010 завершение проектирования и реализацию фрагмента ЕГИС в сфере здравоохран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труктура парка компьютерных систем ЛПУ(в %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176560" y="6041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051840" y="56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64960" y="982800"/>
          <a:ext cx="8562960" cy="57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960" y="982800"/>
                    <a:ext cx="8562960" cy="57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9280" y="286920"/>
            <a:ext cx="8785440" cy="39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У многих руководителей и специалистов здравоохранения сформирована стойкая ненависть или предубеждение и к информатизации и к тем, кто ее «навязывает»</a:t>
            </a:r>
            <a:br>
              <a:rPr sz="40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4292640"/>
            <a:ext cx="91440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-2631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1.  Разработка требований, стандартов,  нормативных документов, регламентирующих решение первоочередных вопросов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лектронная регистратура ЛПУ (в т.ч. дистанционная запись к врачам через Интернет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уктура электронной истории болезни (электронной амбулаторной карт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2631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2.  Создание при Минздравсоцразвития Экспертного совета, обеспечивающего возможность взаимодействия с профессиональным сообществом в процессе выработки, принятия и оценки эффективности управленческих решений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3.  Разработка и принятие концепции и плана работ информатизации здравоохранения Российской Федерации на 2011-2012 г.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79280" y="-255600"/>
            <a:ext cx="8964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4. Разработка и утверждение нормативных актов, регламентирующих и стимулирующих использование электронного документооборота в здравоохран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5. Разработка нормативных актов и типовых документов (положений, инструкций и т.д.) по сопровождению ИКТ (обслуживание, ремонт, модернизация) в учреждениях здравоохранения (собств.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T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-служба ЛПУ, аутсорсинг, распределение работ между внутренними и внешними исполнителям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2631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6.  Введение общероссийского идентификатора пациента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I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7.  Разработка перечня стандартов информационной совместимости (интероперабельности) медицинских компьютерных систем всех уровней (уровня медучреждений, регионального и федерального уровней и т.д.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8.  Разработка перечня стандартов и нормативных документов, регламентирующих межведомственный обмен данными (здравоохранение, обязательное медицинское и социальное страхование, пенсионное обеспечение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-2631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9.  Разработка методических рекомендаций по определению расчетно-нормативных затрат на ИТ-обеспечение в субъектах РФ и в различных типах государственных и муниципальных медицинских учреждени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0. Организация разработки типовых требований к медицинским информационным систем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-2937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11.  Создание на базе федерального и региональных Интернет-ресурсов системы мониторинга оснащенности учреждений здравоохранения средствами ИК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12.  Разработка методических рекомендаций по оценке деятельности субъектов РФ и отдельных ЛПУ по внедрению ИКТ в сфере здравоохранения. Публикация в Интернете результа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13.  Создание и сопровождение общедоступного Интернет-ресурса, отражающего все аспекты информатизации здравоохранения РФ (информация о государственной политике в сфере медицинских ИКТ, приказах, конкурсах, утвержденных справочниках и т.д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14.  Развитие общедоступного банка данных по разработкам в сфере ИКТ (и их использованию), предоставляющего систематизированную информацию о существующих ИКТ и организациях-разработчиках, с целью сокращения неоправданного дублирования разработок и определения тенденций развития ИК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5. Повышения квалификации медицинских специалистов в сфере ИКТ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1440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ганизация последипломного образования и повышения квалификации медицинских специалистов – в первую очередь руководителей - в сфере ИК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ключение курсов по ИКТ в программу последипломного образо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полнение квалификационных требований к основным медицинским специальностям положениями об овладении ИК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28620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89000"/>
            <a:ext cx="91440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роведение в рамках 7-го Международного форума «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edSoft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-2011 - выставка и конференция по мед.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T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(18-20 мая 2011 г.) расширенного заседания экспертно-консультативной группы Совета по вопросам внедрения ИТ в рамках модернизации здравоохранения в субъектах РФ с участием представителей субъектов Р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еренесение срока выполнения п.5 раздел 3 Решения на 1 июня 2011 го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8 июля 2010 (Тверь)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зидент РФ Дмитрий Медведев поручил Минздравсоцразвития отчитаться за невыполнение поручения по информатизации здравоохранения. Президент напомнил, что два года назад на заседании президиума Госсовета в Петрозаводске он поручил разработать и утвердить комплекс мер по информатизации системы здравоохранения. Позднее Минздравсоцразвития докладывало о подготовленной стратегии, затем о программе, но, по словам Медведева, "до настоящего времени документы не согласованы, реализация поручения задерживается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ужно дать объяснение" - сказал президе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Благодарю за внимание.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52280" y="4436640"/>
            <a:ext cx="876312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ихаил Эльян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зидент Ассоциации Развития Медицински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формационных Технологий (АРМИТ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99) 200-10-6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info@armit.ru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ww.armit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4017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21.04.2010.  Владимир Путин: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течение двух ближайших лет на внедрение современных информационных систем в здравоохранении предполагается направить порядка 24 млрд. руб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позволит повысить эффективность использования средств, значительно улучшить организацию доступа граждан к услугам медицинских учрежд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25.08.2010. Дмитрий Медведе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твердил перечень поручений по итогам заседания Совета при Президенте РФ по развитию информационного общества в РФ от 8 июля 2010 года. «Правительство 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168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) Совместно с высшими органами исполнительной власти субъектов РФ обеспечить создание и внедрение в деятельность учреждений здравоохран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дицинских информационно-справочных систем, в том числе в целя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едения электронной истории болезн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матизации работы регистратур и приёмных отделений, включая использование систем записи на приём к врачу через интерне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лемедицинских технолог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стемы непрерывного дистанционного обучения врач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ок – 31 декабря 2012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168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) Совместно с высшими органами исполнительной власти субъектов РФ обеспечить оснащение станций и центров скорой медицинской помощи современными автоматизированными системами обмена информацией, обработки вызовов и управления мобильными бригадами скорой медицинской помощи с использованием аппаратуры спутниковой навигации ГЛОНАСС (Срок – 1 декабря 2012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) Обеспечить создание национального библио-течного ресурса с унифицированным каталогом на базе оцифрованных фондов Российской государ-ственной библиотеки, Российской национальной библиотеки, Президентской библиотеки имени Б.Н.Ельцина, библиотек гос. академий наук РФ, а также гос. и муниципальных публичных библиотек (Срок – 1 июля 2011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Но: за два года существования Департамента информатизации не решена ни одна из ключевых проблем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определен статус электронных документов в здравоохране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ктически ничего не сделано в плане стандартизации и информационной совместим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определены «правила игры» в сфере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поддержки медучрежд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ана продолжает расплачиваться за невежество медчиновников в сфере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В боль-шинстве случаев их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компетенция ниже нул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820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онкурсы Минздравсоцразвития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748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 эти деньги все выше указанные выше проблемы могли быть реализованы в течение двух л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2009-2010 г.г. Минздравсоцразвития провел конкурсы по тематике «ИКТ для здравоохранения» на общую сумму 658.800.000 ру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 91%  средств направлены на нужды чиновников, 9% - медучреждени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820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онкурсы Минздравсоцразвития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курсы проводятся в условиях отсутствия концепции развития ИКТ для здравоохран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ногие конкурсы абсолютно не обоснова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и один из членов комиссии не является специалистом в вопросах мед. ИК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лый бизнес оттирается от участия в конкурсах административными метод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еди победителей практически нет орга-низаций, известных в мире медицинских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sha</cp:lastModifiedBy>
  <dcterms:modified xsi:type="dcterms:W3CDTF">2011-03-03T05:43:39Z</dcterms:modified>
  <cp:revision>490</cp:revision>
  <dc:subject/>
  <dc:title>PowerPoint Presentation</dc:title>
</cp:coreProperties>
</file>